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.wmf" ContentType="image/x-wmf"/>
  <Override PartName="/ppt/media/image2.wmf" ContentType="image/x-wmf"/>
  <Override PartName="/ppt/media/image28.jpeg" ContentType="image/jpeg"/>
  <Override PartName="/ppt/media/image14.wmf" ContentType="image/x-wmf"/>
  <Override PartName="/ppt/media/image27.jpeg" ContentType="image/jpeg"/>
  <Override PartName="/ppt/media/image16.wmf" ContentType="image/x-wmf"/>
  <Override PartName="/ppt/media/image24.jpeg" ContentType="image/jpeg"/>
  <Override PartName="/ppt/media/image4.wmf" ContentType="image/x-wmf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D40-5C86-41D0-AF03-00F637821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AF2-C117-4A9D-9ACC-9406C760E0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69D-96AE-4F91-B1F7-A01DD99F1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C0CF-9724-4F15-B2AE-5F696B02D7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B1F-EADA-4D2E-8017-22FC6D21B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21C-2005-4EF5-AFE0-F3FA7135E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66A8-3188-4AF8-B15C-03DADD561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98C-67B1-4BDD-876A-B1684BA322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AE06-801B-41D9-8995-27F2F3AEEC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14A-9337-4712-8F24-6E747FD70E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B0C-999D-44F8-98AC-CE5CBFA1C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96E2-5CD5-4B85-8A9A-B93CDE71E9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2F5-4F03-4A6B-95D0-7D4279DC1C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7FA4-FFBD-4BD4-B4C5-4F02BC7B4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FAD-D489-4B38-A329-F85F2DCA29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DF5-E19F-4A97-B64F-A895AD458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67FC-150F-43C8-B8A2-B5EC495A02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75A-F2B2-4C59-8AA2-1A49AEDCA7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0DC5-9CD6-42E3-83A3-6E9D119C8C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32E-02DF-45CD-B5CF-307F352D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AC9-7DFF-4C6A-89F4-7533394D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7A9-6580-4C28-BFC3-7BCD1210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16C-0353-42C2-8201-F14FFB28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77C-07A8-430A-ABE5-597B245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4B7-F42A-4D4D-BA17-9EDB0C54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239-DE2E-465F-865E-58EC3898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461-8E7D-4E06-A3C5-84BDE0D2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44D-A5DA-46B8-85B7-96034DFE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30D-357C-4BC9-943C-250B2C4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B8B-F72F-42D0-89C3-7EA21ED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434-926E-48FE-BFF8-535F345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389-3E31-4BCB-9639-6A3CF9748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rfulleredgehill@yahoo.co.u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2.wmf"/><Relationship Id="rId13" Type="http://schemas.openxmlformats.org/officeDocument/2006/relationships/image" Target="../media/image13.jpeg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10.wmf"/><Relationship Id="rId4" Type="http://schemas.openxmlformats.org/officeDocument/2006/relationships/image" Target="../media/image15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places in tow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how to describe what our town is lik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compare ite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describe our 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6) To play silly ga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uríst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Copie de touristique"/>
          <p:cNvPicPr/>
          <p:nvPr/>
        </p:nvPicPr>
        <p:blipFill>
          <a:blip r:embed="rId1"/>
          <a:stretch/>
        </p:blipFill>
        <p:spPr>
          <a:xfrm>
            <a:off x="685800" y="2319480"/>
            <a:ext cx="3809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j0185109"/>
          <p:cNvPicPr/>
          <p:nvPr/>
        </p:nvPicPr>
        <p:blipFill>
          <a:blip r:embed="rId1"/>
          <a:stretch/>
        </p:blipFill>
        <p:spPr>
          <a:xfrm>
            <a:off x="468360" y="2637000"/>
            <a:ext cx="46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ranqui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Copie de tranquilo"/>
          <p:cNvPicPr/>
          <p:nvPr/>
        </p:nvPicPr>
        <p:blipFill>
          <a:blip r:embed="rId1"/>
          <a:stretch/>
        </p:blipFill>
        <p:spPr>
          <a:xfrm>
            <a:off x="685800" y="2643120"/>
            <a:ext cx="43178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ruido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Copie de ruidoso"/>
          <p:cNvPicPr/>
          <p:nvPr/>
        </p:nvPicPr>
        <p:blipFill>
          <a:blip r:embed="rId1"/>
          <a:stretch/>
        </p:blipFill>
        <p:spPr>
          <a:xfrm>
            <a:off x="685800" y="261000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Copie de limpio"/>
          <p:cNvPicPr/>
          <p:nvPr/>
        </p:nvPicPr>
        <p:blipFill>
          <a:blip r:embed="rId1"/>
          <a:stretch/>
        </p:blipFill>
        <p:spPr>
          <a:xfrm>
            <a:off x="755640" y="213372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suc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Copie de sucio"/>
          <p:cNvPicPr/>
          <p:nvPr/>
        </p:nvPicPr>
        <p:blipFill>
          <a:blip r:embed="rId1"/>
          <a:stretch/>
        </p:blipFill>
        <p:spPr>
          <a:xfrm>
            <a:off x="1236600" y="19810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>
            <a:hlinkClick r:id="" action="ppaction://hlinkshowjump?jump=firstslide"/>
          </p:cNvPr>
          <p:cNvSpPr/>
          <p:nvPr/>
        </p:nvSpPr>
        <p:spPr>
          <a:xfrm>
            <a:off x="6948360" y="5877000"/>
            <a:ext cx="1511280" cy="720720"/>
          </a:xfrm>
          <a:custGeom>
            <a:avLst/>
            <a:gdLst>
              <a:gd name="textAreaLeft" fmla="*/ 46440 w 1511280"/>
              <a:gd name="textAreaRight" fmla="*/ 1464840 w 1511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5281" h="21600">
                <a:moveTo>
                  <a:pt x="0" y="0"/>
                </a:moveTo>
                <a:lnTo>
                  <a:pt x="45281" y="0"/>
                </a:lnTo>
                <a:lnTo>
                  <a:pt x="45281" y="21600"/>
                </a:lnTo>
                <a:lnTo>
                  <a:pt x="0" y="21600"/>
                </a:lnTo>
                <a:close/>
              </a:path>
              <a:path fill="lightenLess" w="45281" h="21600">
                <a:moveTo>
                  <a:pt x="0" y="0"/>
                </a:moveTo>
                <a:lnTo>
                  <a:pt x="45281" y="0"/>
                </a:lnTo>
                <a:lnTo>
                  <a:pt x="43881" y="1400"/>
                </a:lnTo>
                <a:lnTo>
                  <a:pt x="1400" y="1400"/>
                </a:lnTo>
                <a:close/>
              </a:path>
              <a:path fill="darken" w="45281" h="21600">
                <a:moveTo>
                  <a:pt x="45281" y="0"/>
                </a:moveTo>
                <a:lnTo>
                  <a:pt x="45281" y="21600"/>
                </a:lnTo>
                <a:lnTo>
                  <a:pt x="43881" y="20200"/>
                </a:lnTo>
                <a:lnTo>
                  <a:pt x="43881" y="1400"/>
                </a:lnTo>
                <a:close/>
              </a:path>
              <a:path fill="darkenLess" w="45281" h="21600">
                <a:moveTo>
                  <a:pt x="45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81" y="20200"/>
                </a:lnTo>
                <a:close/>
              </a:path>
              <a:path fill="lighten" w="45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81" h="21600">
                <a:moveTo>
                  <a:pt x="15634" y="10800"/>
                </a:moveTo>
                <a:lnTo>
                  <a:pt x="29647" y="3794"/>
                </a:lnTo>
                <a:lnTo>
                  <a:pt x="2964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ocabulario - ¿Cómo es tu barr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843280" y="2060640"/>
            <a:ext cx="362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vertido / abur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o / anti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nito / f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rístico /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quilo / rui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mpio / su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How to compare 2 ideas, things, states of mind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ás...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ore...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arnstaple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ás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suci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Bide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arnstaple is dirtier (more dirty) than Bide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enos...que= 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less...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ideford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os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túristic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Cro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ideford is less touristy than Cro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tan...como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as..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Parkham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n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modern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o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Wools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The adjective goes in between the 2 parts of the constructio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642960" y="571680"/>
            <a:ext cx="8001000" cy="5946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YPE up a detailed description of your local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sent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rfulleredgehill@yahoo.co.uk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Friday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clu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you live and what there is (hospital, stadium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shops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re any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you would like to have if you were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es e.g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 embarg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mbié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em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4cujdzp%5b1%5d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2hi3mqyr%5b1%5d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21znvfl%5b1%5d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_f0pmkjc%5b1%5d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xfmcwyui%5b1%5d"/>
          <p:cNvPicPr/>
          <p:nvPr/>
        </p:nvPicPr>
        <p:blipFill>
          <a:blip r:embed="rId6"/>
          <a:stretch/>
        </p:blipFill>
        <p:spPr>
          <a:xfrm>
            <a:off x="250920" y="2492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r%2520park%2520page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y_4laen%5b1%5d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BS00418_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150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4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15" descr="domina2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j0221843"/>
          <p:cNvPicPr/>
          <p:nvPr/>
        </p:nvPicPr>
        <p:blipFill>
          <a:blip r:embed="rId16"/>
          <a:stretch/>
        </p:blipFill>
        <p:spPr>
          <a:xfrm>
            <a:off x="7308720" y="4437000"/>
            <a:ext cx="1393920" cy="155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9"/>
          <p:cNvSpPr/>
          <p:nvPr/>
        </p:nvSpPr>
        <p:spPr>
          <a:xfrm>
            <a:off x="0" y="1773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hos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692360" y="1773360"/>
            <a:ext cx="165564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esta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492360" y="1773360"/>
            <a:ext cx="136872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Corre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0" y="3789360"/>
            <a:ext cx="154764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619280" y="3645000"/>
            <a:ext cx="1800360" cy="10087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Un aparc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763640" y="6093000"/>
            <a:ext cx="169236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entro come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5364000" y="6021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ast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7308720" y="595008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us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41964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oficina de tur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5148360" y="162864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es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7020000" y="170028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ated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514836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877080" y="364500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omisa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0" y="6067440"/>
            <a:ext cx="169236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igles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635280" y="606744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plaza de to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" descr="j4cujdzp%5b1%5d"/>
          <p:cNvPicPr/>
          <p:nvPr/>
        </p:nvPicPr>
        <p:blipFill>
          <a:blip r:embed="rId1"/>
          <a:stretch/>
        </p:blipFill>
        <p:spPr>
          <a:xfrm>
            <a:off x="971640" y="907920"/>
            <a:ext cx="944640" cy="10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car%2520park%2520page"/>
          <p:cNvPicPr/>
          <p:nvPr/>
        </p:nvPicPr>
        <p:blipFill>
          <a:blip r:embed="rId2"/>
          <a:stretch/>
        </p:blipFill>
        <p:spPr>
          <a:xfrm>
            <a:off x="826920" y="1989000"/>
            <a:ext cx="1081080" cy="106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y_4laen%5b1%5d"/>
          <p:cNvPicPr/>
          <p:nvPr/>
        </p:nvPicPr>
        <p:blipFill>
          <a:blip r:embed="rId3"/>
          <a:stretch/>
        </p:blipFill>
        <p:spPr>
          <a:xfrm>
            <a:off x="5003640" y="1125360"/>
            <a:ext cx="1008360" cy="9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1111320" cy="112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5"/>
          <a:stretch/>
        </p:blipFill>
        <p:spPr>
          <a:xfrm>
            <a:off x="826920" y="306864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121znvfl%5b1%5d"/>
          <p:cNvPicPr/>
          <p:nvPr/>
        </p:nvPicPr>
        <p:blipFill>
          <a:blip r:embed="rId6"/>
          <a:stretch/>
        </p:blipFill>
        <p:spPr>
          <a:xfrm>
            <a:off x="4932360" y="4508640"/>
            <a:ext cx="1181160" cy="118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_f0pmkjc%5b1%5d"/>
          <p:cNvPicPr/>
          <p:nvPr/>
        </p:nvPicPr>
        <p:blipFill>
          <a:blip r:embed="rId7"/>
          <a:stretch/>
        </p:blipFill>
        <p:spPr>
          <a:xfrm>
            <a:off x="4932360" y="3357720"/>
            <a:ext cx="942840" cy="103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domina2"/>
          <p:cNvPicPr/>
          <p:nvPr/>
        </p:nvPicPr>
        <p:blipFill>
          <a:blip r:embed="rId8"/>
          <a:stretch/>
        </p:blipFill>
        <p:spPr>
          <a:xfrm>
            <a:off x="755640" y="4221000"/>
            <a:ext cx="1316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divert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Copie de fetes"/>
          <p:cNvPicPr/>
          <p:nvPr/>
        </p:nvPicPr>
        <p:blipFill>
          <a:blip r:embed="rId1"/>
          <a:stretch/>
        </p:blipFill>
        <p:spPr>
          <a:xfrm>
            <a:off x="685800" y="250020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aburr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j0196546"/>
          <p:cNvPicPr/>
          <p:nvPr/>
        </p:nvPicPr>
        <p:blipFill>
          <a:blip r:embed="rId1"/>
          <a:stretch/>
        </p:blipFill>
        <p:spPr>
          <a:xfrm>
            <a:off x="2050920" y="2708280"/>
            <a:ext cx="3457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bon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Copie de bonito"/>
          <p:cNvPicPr/>
          <p:nvPr/>
        </p:nvPicPr>
        <p:blipFill>
          <a:blip r:embed="rId1"/>
          <a:stretch/>
        </p:blipFill>
        <p:spPr>
          <a:xfrm>
            <a:off x="896760" y="1981080"/>
            <a:ext cx="33861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fe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opie de feo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moder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Copie de modern"/>
          <p:cNvPicPr/>
          <p:nvPr/>
        </p:nvPicPr>
        <p:blipFill>
          <a:blip r:embed="rId1"/>
          <a:stretch/>
        </p:blipFill>
        <p:spPr>
          <a:xfrm>
            <a:off x="809640" y="198108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antigu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opie de antiguo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1:43:59Z</dcterms:created>
  <dc:creator>NEC Computers International</dc:creator>
  <dc:description/>
  <dc:language>en-US</dc:language>
  <cp:lastModifiedBy>Chris</cp:lastModifiedBy>
  <dcterms:modified xsi:type="dcterms:W3CDTF">2009-01-12T12:43:19Z</dcterms:modified>
  <cp:revision>9</cp:revision>
  <dc:subject/>
  <dc:title>¿Como es tu barrio?</dc:title>
</cp:coreProperties>
</file>